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E06F-0621-43A0-920E-FAB62FC5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979-1CAD-4A17-BCF6-00CDF16D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B3E-936B-446E-BF46-21A5EC4B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555-F801-4302-8243-FE9D211F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4BD8-88D3-46D2-88E9-ABB7BF1F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22C0-97E2-441E-88F5-D50C7F6C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5E0A-3EB9-4770-BC73-58FD2733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EEBA-DC53-4D5F-B43E-56F8FA4E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2782-A3F5-4781-8B62-860CF2CB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28D0-45BB-4D3F-807D-FD8CE355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BB9B-EC35-4645-9562-639058AA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09A-9FF1-4343-A66C-3CC3E37A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9CBE-8AD2-4F77-949C-128A8790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02CF-0D20-4DDC-BCD1-79245867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BF87-445C-4A29-AD5D-FECEF223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794C-79F4-4186-8E0A-AE079B74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9659-4D03-4F61-97C7-648485E2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83B-E6E9-44CA-A5F4-D0890115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F1A-0ADF-4E79-BBCA-DC28F89D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7BF-03F1-4FA3-BE40-ED21E1C5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205D-6A41-4477-8B0A-4D9296D0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A1F-432F-444D-BEAB-60F24ACC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191-CDFA-498C-B289-5D070D52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DC3-5B20-4393-AC75-6C4D1683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0D03-CB0F-4025-8C91-8BD2050D7E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5BBF-A2F1-4AF1-98F5-E35BC0DA23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СОЦИЈАЛНИ МАРКЕТИНГ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оцијални маркетинг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#1 Деф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Примена техника комерцијалног маркетинга за анализу, планирање, примену и евалуацију програма креираних да утичу на понашање циљане популације које ће допринети њиховом бољуитку и бољитку целог друш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#2 Деф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Коришћење начела и техника маркетинга како би се утицало на циљану популацију да добровољно прихвати, одбаци, промени или напусти понашање за добробит појединца, заједнице или друштва у цели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звој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1951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D. Wibe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ставио питање “Зашто се братство и рационално размишљање не би могли продавати као сапун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1971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Први пут је употребљен термини “социјални маркетинг” у научном рад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оцијални маркетинг: приступ планираној социјалној проме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(Kotler &amp; Zaltma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1989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Издата прва књиг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оцијални маркетинг: стратегија за мењање понашања друш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(Kotler &amp; Robert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2008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: Одржана прва конференција у Енглеско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оцес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Истраживање понашања потрошача / Анализа окруж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Примена сегментације и таргет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Дефинисање циљева и зад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Коришћење 4 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Произв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Дистрибу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51444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Комуник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Евалу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одел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905120" y="1828800"/>
            <a:ext cx="487656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Модел социјалног благост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590920" y="3048120"/>
            <a:ext cx="3429000" cy="457200"/>
          </a:xfrm>
          <a:prstGeom prst="rect">
            <a:avLst/>
          </a:prstGeom>
          <a:solidFill>
            <a:srgbClr val="d9d9d9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оцијални марке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666880" y="4952880"/>
            <a:ext cx="3429000" cy="457200"/>
          </a:xfrm>
          <a:prstGeom prst="rect">
            <a:avLst/>
          </a:prstGeom>
          <a:solidFill>
            <a:srgbClr val="d9d9d9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оцијалне инов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own Arrow 7"/>
          <p:cNvSpPr/>
          <p:nvPr/>
        </p:nvSpPr>
        <p:spPr>
          <a:xfrm>
            <a:off x="4038480" y="2514600"/>
            <a:ext cx="60984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own Arrow 8"/>
          <p:cNvSpPr/>
          <p:nvPr/>
        </p:nvSpPr>
        <p:spPr>
          <a:xfrm>
            <a:off x="4114800" y="4419720"/>
            <a:ext cx="60948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ight Arrow 9"/>
          <p:cNvSpPr/>
          <p:nvPr/>
        </p:nvSpPr>
        <p:spPr>
          <a:xfrm>
            <a:off x="228600" y="3429000"/>
            <a:ext cx="8763120" cy="121932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d9d9d9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ight Arrow 10"/>
          <p:cNvSpPr/>
          <p:nvPr/>
        </p:nvSpPr>
        <p:spPr>
          <a:xfrm>
            <a:off x="228600" y="5257800"/>
            <a:ext cx="8763120" cy="121932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d9d9d9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304920" y="3809880"/>
            <a:ext cx="2895480" cy="457200"/>
          </a:xfrm>
          <a:prstGeom prst="rect">
            <a:avLst/>
          </a:prstGeom>
          <a:solidFill>
            <a:srgbClr val="cccc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Социјална сегмент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6019920" y="3809880"/>
            <a:ext cx="2361960" cy="457200"/>
          </a:xfrm>
          <a:prstGeom prst="rect">
            <a:avLst/>
          </a:prstGeom>
          <a:solidFill>
            <a:srgbClr val="cccc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Социјални медиј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276720" y="3809880"/>
            <a:ext cx="2590560" cy="457200"/>
          </a:xfrm>
          <a:prstGeom prst="rect">
            <a:avLst/>
          </a:prstGeom>
          <a:solidFill>
            <a:srgbClr val="cccc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Комуникациони прог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304920" y="5638680"/>
            <a:ext cx="2895480" cy="457200"/>
          </a:xfrm>
          <a:prstGeom prst="rect">
            <a:avLst/>
          </a:prstGeom>
          <a:solidFill>
            <a:srgbClr val="cccc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Државне институ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276720" y="5638680"/>
            <a:ext cx="2666880" cy="457200"/>
          </a:xfrm>
          <a:prstGeom prst="rect">
            <a:avLst/>
          </a:prstGeom>
          <a:solidFill>
            <a:srgbClr val="cccc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Друштвене/социјалне гру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6095880" y="5638680"/>
            <a:ext cx="2286000" cy="457200"/>
          </a:xfrm>
          <a:prstGeom prst="rect">
            <a:avLst/>
          </a:prstGeom>
          <a:solidFill>
            <a:srgbClr val="ccccff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рме / Н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нтегративни модел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Oval 17"/>
          <p:cNvSpPr/>
          <p:nvPr/>
        </p:nvSpPr>
        <p:spPr>
          <a:xfrm>
            <a:off x="2286000" y="1905120"/>
            <a:ext cx="4191120" cy="4038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2743200" y="2362320"/>
            <a:ext cx="3276720" cy="3200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3124080" y="2819520"/>
            <a:ext cx="2514600" cy="2361960"/>
          </a:xfrm>
          <a:prstGeom prst="ellipse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0"/>
          <p:cNvSpPr/>
          <p:nvPr/>
        </p:nvSpPr>
        <p:spPr>
          <a:xfrm>
            <a:off x="3581280" y="3276720"/>
            <a:ext cx="1676520" cy="1523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1"/>
          <p:cNvSpPr/>
          <p:nvPr/>
        </p:nvSpPr>
        <p:spPr>
          <a:xfrm>
            <a:off x="6413760" y="19810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Бенефит за ја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23"/>
          <p:cNvCxnSpPr/>
          <p:nvPr/>
        </p:nvCxnSpPr>
        <p:spPr>
          <a:xfrm flipV="1">
            <a:off x="4419360" y="2361960"/>
            <a:ext cx="198180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4" name="TextBox 25"/>
          <p:cNvSpPr/>
          <p:nvPr/>
        </p:nvSpPr>
        <p:spPr>
          <a:xfrm>
            <a:off x="242280" y="1600200"/>
            <a:ext cx="22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Жељено понаш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етерминан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н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нсеквенц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Straight Arrow Connector 26"/>
          <p:cNvCxnSpPr/>
          <p:nvPr/>
        </p:nvCxnSpPr>
        <p:spPr>
          <a:xfrm flipH="1" flipV="1">
            <a:off x="2057040" y="2285280"/>
            <a:ext cx="144864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6" name="TextBox 28"/>
          <p:cNvSpPr/>
          <p:nvPr/>
        </p:nvSpPr>
        <p:spPr>
          <a:xfrm>
            <a:off x="167760" y="5181480"/>
            <a:ext cx="289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аркетинг м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изајн и карактерис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рошко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риступ и могућ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муникације и иску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Straight Arrow Connector 29"/>
          <p:cNvCxnSpPr/>
          <p:nvPr/>
        </p:nvCxnSpPr>
        <p:spPr>
          <a:xfrm flipH="1">
            <a:off x="2133000" y="4647960"/>
            <a:ext cx="5338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8" name="TextBox 31"/>
          <p:cNvSpPr/>
          <p:nvPr/>
        </p:nvSpPr>
        <p:spPr>
          <a:xfrm>
            <a:off x="6491520" y="4952880"/>
            <a:ext cx="244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уштина: понашањ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роизвод и усл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Бре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Релеват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озиционирањ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Straight Arrow Connector 32"/>
          <p:cNvCxnSpPr/>
          <p:nvPr/>
        </p:nvCxnSpPr>
        <p:spPr>
          <a:xfrm>
            <a:off x="5791320" y="4267080"/>
            <a:ext cx="129600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бласти примене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омоција здрав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Превенција пов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Заштита животне око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Мобилизација зајед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е и алати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ТВ рекла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ТВ емис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Филм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Музички спот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Интернет стра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n-line </a:t>
            </a: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оглаша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ac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nsta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е и алати социјалног маркетинг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w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nap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Linke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You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oznate li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sr-Latn-RS" sz="2800" spc="-1" strike="noStrike">
                <a:solidFill>
                  <a:srgbClr val="0000ff"/>
                </a:solidFill>
                <a:latin typeface="Arial"/>
              </a:rPr>
              <a:t>ovčane nag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11T05:33:27Z</dcterms:modified>
  <cp:revision>184</cp:revision>
  <dc:subject/>
  <dc:title>Soft and Hard Skills Development: A Current Situation in Serbian Companies</dc:title>
</cp:coreProperties>
</file>